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DD3E9-3E09-4165-82AF-74C67C8A4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0558A-55AE-4CFC-82C2-93FDF6EA0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55D37-C8C2-4A9B-868D-6A08A36A6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903FB-E31B-4FEE-A300-B3CC5D7E4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B7D09-CF72-46B8-B63B-1778D3BE8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F3C79-92EF-4E16-97F0-66E5144E4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904AF-0FAB-40D3-91B2-8452CDC17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AF1B4-B896-44CB-897C-A1B0F1DAA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4F4BC-BF19-4269-831E-2F843DF23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2C20C-8646-43C4-BBDB-EBF59B453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DCED6-F684-48B0-A78C-E51A63D24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D782F-E7CD-4834-A9F0-C1ED12D54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788A4-9679-4232-99DB-2F30BB4E6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3C8E3-67C3-4DAB-8269-536BBBEEE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9FAC7-5CB5-4CA5-8A6A-19377A95A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CBBC9-6D20-4F4B-83CB-4D9E59FFB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68AEA-4018-4456-8574-3A9273596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2A8C2-343E-46E7-9303-AD7A6821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A77DB-1A02-432C-852E-5C4F2628E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33FF7-4D4D-43B1-8375-1F46F26B6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C3DB-33FC-488A-934E-A2B42CC93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9021-631C-4754-ABBD-2759A3B65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09965-9B86-443F-916D-E121C8137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086B8-2D93-4AEF-B0BF-6898BB570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4A3C-D959-4138-8CFB-CEDD5088BBA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6845-B6C7-45A6-B3E3-CC89FC615E3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cu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8</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istorical Role of Federal Government</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unction was to conduct research, disseminate information, and provide advisory assistance to the other two levels of government – to exercise interest in education without direct responsibility or contro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the federal government has provided some financial support for education usually overlooking extensive federal controls in the process.  The government senses a certain national need, usually leaving decision making and administrative controls with the individual sta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rical Role</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ramers of the Constitution seemed to have feared the establishment of a nationally controlled school syst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deral Education Activiti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gan in 1785 with the land grants in the Northwest Ordinances that were given for the purpose of establishing schools.  Later the Morrill Acts provided land for the establishment of land-grant colleges.  These were followed by supplemental acts and by various vocational education grants.  Schoo lunch and emergency programs, war on poverty, and payments in lieu of taxes are examples of federal involvement in financing educatio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deral Education Activitie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deral emphasis has been given to programs designed to help eliminate racial and sex discrimination, stress cultural awareness, and provide funds for specialized categorical program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deral Expenditures</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ook at federa budgets indicates that although the dollar amounts have increased the percentage of the federal budget allocated to education, employment, and training ahs decre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mited Federal Aid</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longer is the debate whether the federal government can be involved funding education.  The questions a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percentage of the total education budget should the federal government assume?       An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the process of funding be through block grants, categorical aid, or general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mited Federal Aid</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merican Association of School Administrators described the following kinds of federal ai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promote the cause of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broaden the scope of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educate individuals for whom the federal government accepts responsibil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improve quality educ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 to compensate for deficiencies in the school tax ba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tributing Federal Funds</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ajor concern I show to determine the best method of distributing funds equitably.  Federal funds are usually categorical in nature, with the result that the states and local school districts lose some of their contr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04:18Z</dcterms:created>
  <dc:creator>Cynthia Altemueller</dc:creator>
  <dc:description/>
  <dc:language>en-US</dc:language>
  <cp:lastModifiedBy>AEURY</cp:lastModifiedBy>
  <dcterms:modified xsi:type="dcterms:W3CDTF">2006-01-27T22:13:13Z</dcterms:modified>
  <cp:revision>3</cp:revision>
  <dc:subject/>
  <dc:title>Finance in Edcuation</dc:title>
</cp:coreProperties>
</file>